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4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  <p:custShowLst>
    <p:custShow name="Custom Show 1" id="0">
      <p:sldLst>
        <p:sld r:id="rId5"/>
        <p:sld r:id="rId6"/>
        <p:sld r:id="rId7"/>
        <p:sld r:id="rId8"/>
        <p:sld r:id="rId9"/>
        <p:sld r:id="rId10"/>
        <p:sld r:id="rId11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1EAF-C120-4B65-A24B-EC46DA3B24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9C0A-F7AA-4C17-AAA2-CB0E5A1D6B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D20-5A48-4C26-A439-DB220096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4B8-5CF6-45C5-8E55-A04D11EC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D24-0564-4777-ABF2-8779301E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124-C62A-4D7A-853D-04F57D09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609E-ACCB-42D2-824F-25B47E7D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EA6F-7B52-4FC8-80E6-B4EAA976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B3C7-E52C-46C9-AAE2-0F8E2D4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502E-93F1-4D8E-9A8E-74F9AF8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3367-8E2C-4F54-9624-5C5EA7A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1DC-4093-47BB-9216-80619C58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6FD-1055-42C5-9FCB-F5A6EA2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36A-7676-4549-9CAF-E4AC302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F70B-4BD4-478D-80AB-DE631AA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E59B-63C6-41B9-9D0A-60FBA6B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36EF-B696-463D-88DA-5772F14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B6E7-F364-4962-8207-CDEECE43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FEB8-FD78-4CB0-9A69-BB31B999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CC2-CCF6-4C82-B9D3-97C870D5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BF2-E552-4F8E-83D0-EEFC6F8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66E-F21B-4630-95FF-0741709F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45A-1EEF-4BC0-8057-4B66979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317-BD45-442A-909A-C36E1DD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3DC-7F36-4847-9B9D-32E4DDC5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8FF-5931-4845-8A4B-85944E2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32F9-6F3F-417C-A670-2D035E38AD0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flipH="1" rot="21173400">
            <a:off x="4068000" y="1312920"/>
            <a:ext cx="3673440" cy="36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 flipH="1" rot="21436200">
            <a:off x="4044960" y="1268280"/>
            <a:ext cx="3673440" cy="36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065480" y="1252440"/>
            <a:ext cx="3840120" cy="384012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64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 rot="292800">
            <a:off x="4123800" y="1181160"/>
            <a:ext cx="3978360" cy="3978360"/>
          </a:xfrm>
          <a:prstGeom prst="rect">
            <a:avLst/>
          </a:prstGeom>
          <a:solidFill>
            <a:srgbClr val="ffffff"/>
          </a:solidFill>
          <a:ln w="3240">
            <a:solidFill>
              <a:srgbClr val="777777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39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4398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39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8C5-95DC-415B-B2C9-E6CE7F44EA5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2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8766360" cy="2382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niel Contreras, Latonney Gregor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nny Hardin and Stephanie Sh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ET/5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ch 11,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or Melinda Me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Latonney2u\AppData\Local\Microsoft\Windows\Temporary Internet Files\Content.IE5\5TE90EHS\MP900442310[1].jpg"/>
          <p:cNvPicPr/>
          <p:nvPr/>
        </p:nvPicPr>
        <p:blipFill>
          <a:blip r:embed="rId2"/>
          <a:stretch/>
        </p:blipFill>
        <p:spPr>
          <a:xfrm>
            <a:off x="1905120" y="228600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79200" y="189000"/>
            <a:ext cx="8607600" cy="156672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 2" descr=""/>
          <p:cNvPicPr/>
          <p:nvPr/>
        </p:nvPicPr>
        <p:blipFill>
          <a:blip r:embed="rId2"/>
          <a:stretch/>
        </p:blipFill>
        <p:spPr>
          <a:xfrm>
            <a:off x="1365120" y="1352520"/>
            <a:ext cx="7328160" cy="245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C:\Users\Latonney2u\AppData\Local\Microsoft\Windows\Temporary Internet Files\Content.IE5\5TE90EHS\MP900439345[1].jpg"/>
          <p:cNvPicPr/>
          <p:nvPr/>
        </p:nvPicPr>
        <p:blipFill>
          <a:blip r:embed="rId3"/>
          <a:stretch/>
        </p:blipFill>
        <p:spPr>
          <a:xfrm>
            <a:off x="4343400" y="358128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79200" y="189000"/>
            <a:ext cx="860760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Diagram 2" descr=""/>
          <p:cNvPicPr/>
          <p:nvPr/>
        </p:nvPicPr>
        <p:blipFill>
          <a:blip r:embed="rId2"/>
          <a:stretch/>
        </p:blipFill>
        <p:spPr>
          <a:xfrm>
            <a:off x="457200" y="1365120"/>
            <a:ext cx="8236080" cy="45547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4" descr=""/>
          <p:cNvPicPr/>
          <p:nvPr/>
        </p:nvPicPr>
        <p:blipFill>
          <a:blip r:embed="rId1"/>
          <a:stretch/>
        </p:blipFill>
        <p:spPr>
          <a:xfrm>
            <a:off x="92160" y="-79200"/>
            <a:ext cx="895968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04920" y="838080"/>
          <a:ext cx="8799480" cy="5972400"/>
        </p:xfrm>
        <a:graphic>
          <a:graphicData uri="http://schemas.openxmlformats.org/drawingml/2006/table">
            <a:tbl>
              <a:tblPr/>
              <a:tblGrid>
                <a:gridCol w="1414440"/>
                <a:gridCol w="3612960"/>
                <a:gridCol w="3772080"/>
              </a:tblGrid>
              <a:tr h="623880"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ynchro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41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l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process info and formulate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37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Reflection T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s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is limited to written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s can follow along with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 inf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 telecon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calendar or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 collaboration for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-ended questions by facili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or L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learners engag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center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 learner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time to attend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actively engaged and avoid dist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-time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own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ain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 can be asked at any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advTm="4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552960"/>
            <a:ext cx="830592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hley, J., (2003). Synchronous and asynchronous communication tools. Executive Update Online. Retrieved from www.asaecenter.org/Resources/articledetail.cfm?ItemNumber=135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kelstein, J. (2006). Learning in real time: Synchronous teaching and learning online. San Francisco, CA: Jossey-Bass. Retrieved from https://ecampus.phoenix.edu/content/eBookLibrary2/content/ eReader.aspx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setMetaId=47c81011-9927-4b85-8999- f05d62d60173&amp;assetDataId=1d315fd7-62c7-4706-b7d0- 0a1486e2aa90&amp;assetpdfdataid=b747bbe4-89e3-4838-b985- eae01874a8d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lly, M., (2011). About.com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 Learning Styles: Understanding and Using Learning Styl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Retrieved March 5, 2011. from http://712educators.about.com/od/learningstyles/a/learning_styles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ndor-Ngemi, J., (2007).What Is The Difference Between Synchronous And Asynchronous Learning? Name some different forms. Retrieved March 6, 2012. from, http://jarrettlandor.blogspot.com/2007/10/what-is-difference-between-synchronous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chard, L.,.(2009).eLearning in Ottaw: Difference Between Asynchronous and Synchronous Learning. Retrieved March 6, 2012. from, http://elearning-ottawa.org/2009/08/11/difference-between-asynchronous-and-synchronous-learning.as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05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80880" y="1143000"/>
            <a:ext cx="8305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 learning, which means at the same time requires interacting with an instructor through the internet in real-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 means that 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tructor is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the course is delivered, even though the course might be delivered remotely over the Intern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ichard, 200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" descr="C:\Users\Latonney2u\AppData\Local\Microsoft\Windows\Temporary Internet Files\Content.IE5\QTN2EC9R\MP900422593[1].jpg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1337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0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04920" y="1295280"/>
            <a:ext cx="85341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, which means, "not at the same time," allows the learners to complete the web based training on his own time and schedule, without live interaction with the instruct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type classes are completely the opposite of synchronous classes which means that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tructor does not need to be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refore allowing learners to learn anytime, at their 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ichard, 200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C:\Users\Latonney2u\AppData\Local\Microsoft\Windows\Temporary Internet Files\Content.IE5\ZVK2VJ5D\MP900422589[1].jpg"/>
          <p:cNvPicPr/>
          <p:nvPr/>
        </p:nvPicPr>
        <p:blipFill>
          <a:blip r:embed="rId2"/>
          <a:stretch/>
        </p:blipFill>
        <p:spPr>
          <a:xfrm>
            <a:off x="457200" y="4876920"/>
            <a:ext cx="3352680" cy="1676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2" descr=""/>
          <p:cNvPicPr/>
          <p:nvPr/>
        </p:nvPicPr>
        <p:blipFill>
          <a:blip r:embed="rId2"/>
          <a:stretch/>
        </p:blipFill>
        <p:spPr>
          <a:xfrm>
            <a:off x="1371600" y="1390680"/>
            <a:ext cx="7394400" cy="529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Program Files (x86)\Microsoft Office\MEDIA\CAGCAT10\j0301252.wmf"/>
          <p:cNvPicPr/>
          <p:nvPr/>
        </p:nvPicPr>
        <p:blipFill>
          <a:blip r:embed="rId3"/>
          <a:stretch/>
        </p:blipFill>
        <p:spPr>
          <a:xfrm flipH="1">
            <a:off x="228600" y="510552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C:\Program Files (x86)\Microsoft Office\MEDIA\CAGCAT10\j0301252.wmf"/>
          <p:cNvPicPr/>
          <p:nvPr/>
        </p:nvPicPr>
        <p:blipFill>
          <a:blip r:embed="rId4"/>
          <a:stretch/>
        </p:blipFill>
        <p:spPr>
          <a:xfrm>
            <a:off x="7086600" y="9144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07" name="Diagram 2" descr=""/>
          <p:cNvPicPr/>
          <p:nvPr/>
        </p:nvPicPr>
        <p:blipFill>
          <a:blip r:embed="rId2"/>
          <a:stretch/>
        </p:blipFill>
        <p:spPr>
          <a:xfrm>
            <a:off x="689040" y="1359000"/>
            <a:ext cx="7235640" cy="45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Program Files (x86)\Microsoft Office\MEDIA\CAGCAT10\j0292020.wmf"/>
          <p:cNvPicPr/>
          <p:nvPr/>
        </p:nvPicPr>
        <p:blipFill>
          <a:blip r:embed="rId3"/>
          <a:stretch/>
        </p:blipFill>
        <p:spPr>
          <a:xfrm>
            <a:off x="152280" y="5105520"/>
            <a:ext cx="1600200" cy="154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7314840" y="990720"/>
            <a:ext cx="1600200" cy="15444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11" name="Diagram 4" descr=""/>
          <p:cNvPicPr/>
          <p:nvPr/>
        </p:nvPicPr>
        <p:blipFill>
          <a:blip r:embed="rId2"/>
          <a:stretch/>
        </p:blipFill>
        <p:spPr>
          <a:xfrm>
            <a:off x="2670120" y="1798560"/>
            <a:ext cx="6168960" cy="4248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643080" y="601992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ndor-Ngemi, 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Latonney2u\AppData\Local\Microsoft\Windows\Temporary Internet Files\Content.IE5\5TE90EHS\MC900295477[1].wmf"/>
          <p:cNvPicPr/>
          <p:nvPr/>
        </p:nvPicPr>
        <p:blipFill>
          <a:blip r:embed="rId3"/>
          <a:stretch/>
        </p:blipFill>
        <p:spPr>
          <a:xfrm>
            <a:off x="457200" y="1219320"/>
            <a:ext cx="2133720" cy="44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521560" cy="131616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4" descr=""/>
          <p:cNvPicPr/>
          <p:nvPr/>
        </p:nvPicPr>
        <p:blipFill>
          <a:blip r:embed="rId2"/>
          <a:stretch/>
        </p:blipFill>
        <p:spPr>
          <a:xfrm>
            <a:off x="2517840" y="1676520"/>
            <a:ext cx="6394320" cy="4322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719400" y="60958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ndor-Ngemi, 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Latonney2u\AppData\Local\Microsoft\Windows\Temporary Internet Files\Content.IE5\5TE90EHS\MC900295477[1].wmf"/>
          <p:cNvPicPr/>
          <p:nvPr/>
        </p:nvPicPr>
        <p:blipFill>
          <a:blip r:embed="rId3"/>
          <a:stretch/>
        </p:blipFill>
        <p:spPr>
          <a:xfrm>
            <a:off x="304920" y="1298520"/>
            <a:ext cx="2060280" cy="44928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291960" y="274680"/>
            <a:ext cx="8394840" cy="1268280"/>
          </a:xfrm>
          <a:prstGeom prst="rect">
            <a:avLst/>
          </a:prstGeom>
          <a:ln w="0">
            <a:noFill/>
          </a:ln>
        </p:spPr>
      </p:pic>
      <p:pic>
        <p:nvPicPr>
          <p:cNvPr id="119" name="Diagram 2" descr=""/>
          <p:cNvPicPr/>
          <p:nvPr/>
        </p:nvPicPr>
        <p:blipFill>
          <a:blip r:embed="rId2"/>
          <a:stretch/>
        </p:blipFill>
        <p:spPr>
          <a:xfrm>
            <a:off x="609480" y="1395360"/>
            <a:ext cx="8077320" cy="51577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79200" y="195120"/>
            <a:ext cx="8607600" cy="1560600"/>
          </a:xfrm>
          <a:prstGeom prst="rect">
            <a:avLst/>
          </a:prstGeom>
          <a:ln w="0">
            <a:noFill/>
          </a:ln>
        </p:spPr>
      </p:pic>
      <p:pic>
        <p:nvPicPr>
          <p:cNvPr id="121" name="Diagram 2" descr=""/>
          <p:cNvPicPr/>
          <p:nvPr/>
        </p:nvPicPr>
        <p:blipFill>
          <a:blip r:embed="rId2"/>
          <a:stretch/>
        </p:blipFill>
        <p:spPr>
          <a:xfrm>
            <a:off x="231840" y="1341360"/>
            <a:ext cx="8534160" cy="412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228600" y="48769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Program Files (x86)\Microsoft Office\MEDIA\CAGCAT10\j0299125.wmf"/>
          <p:cNvPicPr/>
          <p:nvPr/>
        </p:nvPicPr>
        <p:blipFill>
          <a:blip r:embed="rId4"/>
          <a:stretch/>
        </p:blipFill>
        <p:spPr>
          <a:xfrm flipH="1">
            <a:off x="7620120" y="5335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37:21Z</dcterms:created>
  <dc:creator>PATNPENS</dc:creator>
  <dc:description/>
  <dc:language>en-US</dc:language>
  <cp:lastModifiedBy>PATNPENS</cp:lastModifiedBy>
  <dcterms:modified xsi:type="dcterms:W3CDTF">2012-03-11T17:01:06Z</dcterms:modified>
  <cp:revision>45</cp:revision>
  <dc:subject/>
  <dc:title>SYNCHRONOUS/ASYNCHRONOUS LEARNING COMPARISON</dc:title>
</cp:coreProperties>
</file>